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A233-684B-434B-9CFF-7DD17ABC96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BF19B8F-58D9-4FAD-B231-D3AC6892115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3873600" y="9477360"/>
            <a:ext cx="2949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A2CE9C84-F733-4D55-BED1-CA7EDBE937A3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67120" y="9477360"/>
            <a:ext cx="29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32EB586E-1985-4F7D-8714-53FBEAA2869F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67120" y="9477360"/>
            <a:ext cx="294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F708C660-6041-4BF5-9E69-E4C1B9F7F801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67120" y="9477360"/>
            <a:ext cx="2952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E3BE4B77-17C3-441D-82B8-14518226B036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867120" y="9477360"/>
            <a:ext cx="2955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1656A193-6EA5-44F8-9778-684B9A8B4643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867120" y="947880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B47AFCC0-B6B3-4316-8B17-4B71EEEC8831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67120" y="94788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87E33059-8F72-4707-ABD1-B5FF7658BD59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39880" y="696960"/>
            <a:ext cx="4462200" cy="34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56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182-97E9-4FA2-8CCE-6811E8E4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131-1D32-42BA-92B6-97B77B62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DCF-64F0-4C8D-96CA-B1578B06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02C-9E99-4E33-A97F-2D2ECBAE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74D-60CC-44F5-BF7A-6FD9E7E3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634-A777-4F5B-8122-517B3951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EC2-B235-4CB3-B292-C8927B00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2EC-F625-41BE-B11F-26641C22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862-A012-4EA5-B2BB-6BC83034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9F0-ECB2-42FE-8BED-52B04802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5B5-A41B-4A0B-8D64-861E48F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631-BC0F-47C1-A372-6AA6636E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1b6fd"/>
                  </a:gs>
                  <a:gs pos="100000">
                    <a:srgbClr val="c6e7f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c6e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6e7f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152C-A3F1-4712-800B-6A304C4C15C7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Users\Stella.Ibraeva\Desktop\1_6310.jpg"/>
          <p:cNvPicPr/>
          <p:nvPr/>
        </p:nvPicPr>
        <p:blipFill>
          <a:blip r:embed="rId1"/>
          <a:stretch/>
        </p:blipFill>
        <p:spPr>
          <a:xfrm>
            <a:off x="4410000" y="3774960"/>
            <a:ext cx="4381560" cy="2914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08000" y="6124320"/>
            <a:ext cx="3888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entury Gothic"/>
                <a:ea typeface="Arial"/>
              </a:rPr>
              <a:t>г. Астана, </a:t>
            </a:r>
            <a:r>
              <a:rPr b="0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2017</a:t>
            </a:r>
            <a:r>
              <a:rPr b="0" lang="ru-RU" sz="1600" spc="-1" strike="noStrike">
                <a:solidFill>
                  <a:srgbClr val="002060"/>
                </a:solidFill>
                <a:latin typeface="Century Gothic"/>
                <a:ea typeface="Arial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79280" y="1687680"/>
            <a:ext cx="89107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МИНИСТЕРСТВО ОБРАЗОВАНИЯ И НАУКИ  РЕСПУБЛИКИ КАЗАХСТА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01640" y="24922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entury Gothic"/>
                <a:ea typeface="Arial"/>
              </a:rPr>
              <a:t>Попечительские </a:t>
            </a:r>
            <a:br>
              <a:rPr sz="4800"/>
            </a:br>
            <a:r>
              <a:rPr b="0" lang="ru-RU" sz="4800" spc="-1" strike="noStrike">
                <a:solidFill>
                  <a:srgbClr val="002060"/>
                </a:solidFill>
                <a:latin typeface="Century Gothic"/>
                <a:ea typeface="Arial"/>
              </a:rPr>
              <a:t>совет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E:\copy\СТЭЛЛА\НУЖНОЕ\ЛОГО-МОН (последний).png"/>
          <p:cNvPicPr/>
          <p:nvPr/>
        </p:nvPicPr>
        <p:blipFill>
          <a:blip r:embed="rId2"/>
          <a:stretch/>
        </p:blipFill>
        <p:spPr>
          <a:xfrm>
            <a:off x="3728880" y="314280"/>
            <a:ext cx="141948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250920" y="1760400"/>
            <a:ext cx="4465440" cy="3290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Любые принятые организацией образования поступления от благотворительной помощи зачисляются на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контрольный счёт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наличности благотворительной помощи, открытый в территориальном подразделении уполномоченного органа по исполнению бюджета, в соответствии с бюджетным законодательством Республики Казахстан – для организаций образования, созданных в организационно-правовой форме государственное учреждение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) счёт, открытый в банке второго уровня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– для организаций образования, созданных в иных организационно-правовых формах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4932360" y="1760400"/>
            <a:ext cx="4019400" cy="3290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Поступления от благотворительной помощи расходуютс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на следующие цели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социальная поддержка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бучающихся и воспитанников организации образовани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совершенствование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 материально-технической базы организации образовани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развитие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спорта, поддержка одаренных детей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осуществление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 расходов на организацию образовательного процесса сверх требований государственных общеобразовательных стандартов образовани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250920" y="5284800"/>
            <a:ext cx="870876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рганизация образования ежегодно по итогам финансового год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информирует общественность о результатах деятельности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по использованию и движении средств благотворительной помощи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путем размещения соответствующего отчета на интернет-ресурсе данной организации образования, у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лномоченн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го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орган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соответствующей отрасли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, местного исполнительного органа в области образова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ИЙ СОВЕ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И БЛАГОТВОРИТЕЛЬНОСТЬ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08" name="Нашивка 7"/>
          <p:cNvSpPr/>
          <p:nvPr/>
        </p:nvSpPr>
        <p:spPr>
          <a:xfrm>
            <a:off x="4714920" y="1846440"/>
            <a:ext cx="360360" cy="57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1771560"/>
          <a:ext cx="8642160" cy="4848480"/>
        </p:xfrm>
        <a:graphic>
          <a:graphicData uri="http://schemas.openxmlformats.org/drawingml/2006/table">
            <a:tbl>
              <a:tblPr/>
              <a:tblGrid>
                <a:gridCol w="3440160"/>
                <a:gridCol w="1593720"/>
                <a:gridCol w="1593720"/>
                <a:gridCol w="2014560"/>
              </a:tblGrid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РЕГИО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2015-20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2016-20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Юридическая регистрац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ҚР / Р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43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395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7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қмола / Акмол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қтөбе / Актюб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маты / Алмат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ырау / Атырау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ҚО / З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амбыл / Жамбыл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арағанды / Караганд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останай / Костанай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ызылорда / Кызылорд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ңғыстау / Мангистау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ҚО / Ю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влодар / Павлодар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ҚО / С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ҚО / В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стана қ. / г. Астан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маты қ. / г. Алмат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06616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ТЕКУЩАЯ СИТУАЦИЯ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920" y="3213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706d"/>
                </a:solidFill>
                <a:latin typeface="Century Gothic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127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  <a:ea typeface="Trebuchet MS"/>
              </a:rPr>
              <a:t>ЦЕ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  <a:ea typeface="Trebuchet MS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9600" y="1844280"/>
            <a:ext cx="8448480" cy="28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Попечительский совет</a:t>
            </a: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дна из форм участия общества в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управлении образованием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 Негосударственная, неправительственная, некоммерческая, общественная организация, которая объединяет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на добровольной основе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сех, кто заинтересован в развитии образования и конкретного образовательного учреждения. </a:t>
            </a: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Попечительский сове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это не просто поддержка и финансирование, а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диалог с властью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т имени организаций образования, а главное - от имени гражданского общества. Возможны два правовых статуса Попечительского совета: с образованием юридического лица или без его образова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2484360" y="4797360"/>
            <a:ext cx="6251760" cy="187164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Цель Попечительского совета</a:t>
            </a: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entury Gothic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одействие организации образования в осуществлении ее уставных функций, в обеспечении финансовой поддержки, в укреплении материально-технической базы, а также осуществление общественного контроля за ее деятельностью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Stella.Ibraeva\Desktop\images.jpg"/>
          <p:cNvPicPr/>
          <p:nvPr/>
        </p:nvPicPr>
        <p:blipFill>
          <a:blip r:embed="rId1"/>
          <a:stretch/>
        </p:blipFill>
        <p:spPr>
          <a:xfrm>
            <a:off x="250920" y="4797360"/>
            <a:ext cx="191772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324000" y="1846440"/>
            <a:ext cx="8496000" cy="242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   </a:t>
            </a:r>
            <a:r>
              <a:rPr b="1" lang="en-US" sz="1700" spc="-1" strike="noStrike">
                <a:solidFill>
                  <a:srgbClr val="0070c0"/>
                </a:solidFill>
                <a:latin typeface="Century Gothic"/>
              </a:rPr>
              <a:t>  </a:t>
            </a:r>
            <a:r>
              <a:rPr b="1" lang="ru-RU" sz="1700" spc="-1" strike="noStrike">
                <a:solidFill>
                  <a:srgbClr val="0070c0"/>
                </a:solidFill>
                <a:latin typeface="Century Gothic"/>
              </a:rPr>
              <a:t>Пункт 9 статьи 44 Закона РК «Об образовании»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«В организациях образования создаются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коллегиальные органы управления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     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Формами коллегиального управления организацией образовани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могут быть совет (ученый совет) организации образования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попечительский совет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, педагогический, методический советы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и другие формы, типовые правила организации работы которых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ключая порядок их избрания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утверждаются уполномоченным органом в области образования»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059280" y="4699080"/>
            <a:ext cx="5760720" cy="17398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70c0"/>
                </a:solidFill>
                <a:latin typeface="Century Gothic"/>
              </a:rPr>
              <a:t>Разработан НПА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Приказ министра образования и науки РК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от 27 июля 2017 года № 355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«О</a:t>
            </a: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б утверждении 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Типовых прави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рганизации работы Попечительского совета и порядок его избрания в организациях образования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9280" y="764640"/>
            <a:ext cx="806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ОРМАТИВНЫЕ ПРАВОВЫЕ АКТЫ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77" name="Picture 2" descr="C:\Users\Stella.Ibraeva\Desktop\pravo11-250x212.jpg"/>
          <p:cNvPicPr/>
          <p:nvPr/>
        </p:nvPicPr>
        <p:blipFill>
          <a:blip r:embed="rId1"/>
          <a:stretch/>
        </p:blipFill>
        <p:spPr>
          <a:xfrm>
            <a:off x="324000" y="4521240"/>
            <a:ext cx="23810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277920" y="1841400"/>
            <a:ext cx="5532480" cy="44355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entury Gothic"/>
              </a:rPr>
              <a:t>Попечительский совет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00000"/>
                </a:solidFill>
                <a:latin typeface="Century Gothic"/>
              </a:rPr>
              <a:t>взаимодействует с: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администрацией организации образования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дительским комитетом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местными исполнительными органам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заинтересованными </a:t>
            </a:r>
            <a:r>
              <a:rPr b="0" lang="kk-KZ" sz="1900" spc="-1" strike="noStrike">
                <a:solidFill>
                  <a:srgbClr val="000000"/>
                </a:solidFill>
                <a:latin typeface="Century Gothic"/>
              </a:rPr>
              <a:t>государственными органами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иными физическими и/или юридическими лицам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6156360" y="1863720"/>
            <a:ext cx="2665440" cy="2228400"/>
          </a:xfrm>
          <a:prstGeom prst="rect">
            <a:avLst/>
          </a:prstGeom>
          <a:noFill/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Попечительский сов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соз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kk-KZ" sz="2000" spc="-1" strike="noStrike">
                <a:solidFill>
                  <a:srgbClr val="0070c0"/>
                </a:solidFill>
                <a:latin typeface="Century Gothic"/>
              </a:rPr>
              <a:t>организациях 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70c0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06616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ВЗАИМОДЕЙСТВ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81" name="Picture 2" descr="C:\Users\Stella.Ibraeva\Desktop\about.png"/>
          <p:cNvPicPr/>
          <p:nvPr/>
        </p:nvPicPr>
        <p:blipFill>
          <a:blip r:embed="rId1"/>
          <a:stretch/>
        </p:blipFill>
        <p:spPr>
          <a:xfrm>
            <a:off x="5916600" y="4408560"/>
            <a:ext cx="3117960" cy="19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хема 6" descr=""/>
          <p:cNvPicPr/>
          <p:nvPr/>
        </p:nvPicPr>
        <p:blipFill>
          <a:blip r:embed="rId1"/>
          <a:stretch/>
        </p:blipFill>
        <p:spPr>
          <a:xfrm>
            <a:off x="237960" y="1712880"/>
            <a:ext cx="874080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8073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ОСТА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84" name="Picture 2" descr="C:\Users\Stella.Ibraeva\Desktop\proekty.png"/>
          <p:cNvPicPr/>
          <p:nvPr/>
        </p:nvPicPr>
        <p:blipFill>
          <a:blip r:embed="rId2"/>
          <a:stretch/>
        </p:blipFill>
        <p:spPr>
          <a:xfrm>
            <a:off x="6156360" y="2852640"/>
            <a:ext cx="27352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349200" y="1916280"/>
            <a:ext cx="426564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Число членов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является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нечетным и составля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ет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не менее девяти человек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е находящихся в отношениях близкого родства и свойства друг с другом и руководителем данной организации образова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8073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ОСТА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5003640" y="1844640"/>
            <a:ext cx="3953160" cy="4667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исло членов </a:t>
            </a: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являетс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ечетным и составля</a:t>
            </a:r>
            <a:r>
              <a:rPr b="1" i="1" lang="kk-KZ" sz="2000" spc="-1" strike="noStrike">
                <a:solidFill>
                  <a:srgbClr val="c00000"/>
                </a:solidFill>
                <a:latin typeface="Century Gothic"/>
              </a:rPr>
              <a:t>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е менее девяти человек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 находящихся в отношениях близкого родства и свойств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руг с друг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 руководителем данной организации образования. Срок полномочий членов Попечительского совета составляет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один год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лены не входят в штат работников данной организации 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304920" y="5676840"/>
            <a:ext cx="4300560" cy="94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Количество членов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являющихся представителями государственных органов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не превыша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ет </a:t>
            </a: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трех челове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Stella.Ibraeva\Desktop\Basic-Scrum-Team-Connected.jpg"/>
          <p:cNvPicPr/>
          <p:nvPr/>
        </p:nvPicPr>
        <p:blipFill>
          <a:blip r:embed="rId1"/>
          <a:stretch/>
        </p:blipFill>
        <p:spPr>
          <a:xfrm>
            <a:off x="1143000" y="3573360"/>
            <a:ext cx="262404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806472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АПРАВЛЕНИЯ РАБОТ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1773000"/>
            <a:ext cx="4897440" cy="498780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Оказание помощи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организации образования в проведении образовательных, социально-культурных, оздоровительных, развивающих мероприятий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Улучшение бытовых условий и трудоустройство обучающихся                             </a:t>
            </a: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из социально уязвимых слоев населения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несение предложений, направленных на </a:t>
            </a: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устранение недостатков</a:t>
            </a:r>
            <a:r>
              <a:rPr b="1" lang="ru-RU" sz="17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 деятельности организации образования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Заслушивание отчета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организации образования перед Попечительским советом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2" name="Picture 2" descr="C:\Users\Stella.Ibraeva\Desktop\social-network-communities-image.jpg"/>
          <p:cNvPicPr/>
          <p:nvPr/>
        </p:nvPicPr>
        <p:blipFill>
          <a:blip r:embed="rId1"/>
          <a:stretch/>
        </p:blipFill>
        <p:spPr>
          <a:xfrm>
            <a:off x="5326200" y="4149720"/>
            <a:ext cx="352584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5292720" y="1773360"/>
            <a:ext cx="3541680" cy="161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ение членами Попечительского совета своих полномочий осуществля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а безвозмездной осно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ЛНОМОЧ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95" name="Picture 4" descr="C:\Users\Stella.Ibraeva\Desktop\231d7f4.jpg"/>
          <p:cNvPicPr/>
          <p:nvPr/>
        </p:nvPicPr>
        <p:blipFill>
          <a:blip r:embed="rId1"/>
          <a:stretch/>
        </p:blipFill>
        <p:spPr>
          <a:xfrm>
            <a:off x="6364440" y="1916280"/>
            <a:ext cx="2597040" cy="2449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8"/>
          <p:cNvSpPr/>
          <p:nvPr/>
        </p:nvSpPr>
        <p:spPr>
          <a:xfrm>
            <a:off x="179280" y="1916280"/>
            <a:ext cx="6048360" cy="228420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существляет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общественный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 соблюдением прав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бучающихся и воспитанников организации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, а также за  расходованием благотворительной помощи, поступающих на счет образовательных учреждений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ырабатывает предложения о внесении изменений и/или дополнений в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устав организации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ырабатывает рекомендации по приоритетным направлениям развития 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1692360" y="4724280"/>
            <a:ext cx="7200720" cy="17974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4) вырабатывает предложения по совершенствованию мер по вопросам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устройства детей-сирот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и детей, оставшихся без попечения родителей в семьи казахстанских граждан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5)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участвует в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распределении финансовых средств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, поступивших в организацию образования в виде благотворитель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 принимает решен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е о его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целевом расходова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гнутая влево стрелка 6"/>
          <p:cNvSpPr/>
          <p:nvPr/>
        </p:nvSpPr>
        <p:spPr>
          <a:xfrm>
            <a:off x="468360" y="4581360"/>
            <a:ext cx="1008000" cy="14400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265320 h 1440000"/>
              <a:gd name="textAreaBottom" fmla="*/ 10486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65" stAng="-5400000" swAng="-5400000"/>
                <a:lnTo>
                  <a:pt x="0" y="11745"/>
                </a:lnTo>
                <a:arcTo wR="21600" hR="7965" stAng="10800000" swAng="-3300017"/>
                <a:lnTo>
                  <a:pt x="16200" y="21347"/>
                </a:lnTo>
                <a:lnTo>
                  <a:pt x="21600" y="17820"/>
                </a:lnTo>
                <a:lnTo>
                  <a:pt x="16200" y="13787"/>
                </a:lnTo>
                <a:lnTo>
                  <a:pt x="16200" y="15677"/>
                </a:lnTo>
                <a:arcTo wR="21600" hR="7965" stAng="7499983" swAng="2991203"/>
                <a:lnTo>
                  <a:pt x="617" y="9855"/>
                </a:lnTo>
                <a:arcTo wR="21600" hR="7965" stAng="-10491187" swAng="5091187"/>
                <a:close/>
              </a:path>
              <a:path fill="darkenLess" w="21600" h="21600">
                <a:moveTo>
                  <a:pt x="21600" y="0"/>
                </a:moveTo>
                <a:arcTo wR="21600" hR="7965" stAng="-5400000" swAng="-5400000"/>
                <a:lnTo>
                  <a:pt x="0" y="7965"/>
                </a:lnTo>
                <a:arcTo wR="21600" hR="7965" stAng="10800000" swAng="-308813"/>
                <a:lnTo>
                  <a:pt x="617" y="9855"/>
                </a:lnTo>
                <a:arcTo wR="21600" hR="7965" stAng="-10491187" swAng="5091187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ЛНОМОЧ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484360" y="1859040"/>
            <a:ext cx="5759640" cy="17974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вырабатывает предложения при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формировани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и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 бюджета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вносит предложения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м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ган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соответствующей отрасли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или местному исполнительному органу в области образования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 устранении выявленных Попечительским советом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недостатков в работе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Stella.Ibraeva\Desktop\working_together_teamwork_puzzle_concept.jpg"/>
          <p:cNvPicPr/>
          <p:nvPr/>
        </p:nvPicPr>
        <p:blipFill>
          <a:blip r:embed="rId1"/>
          <a:stretch/>
        </p:blipFill>
        <p:spPr>
          <a:xfrm>
            <a:off x="263520" y="1859040"/>
            <a:ext cx="2111400" cy="2111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244440" y="4005360"/>
            <a:ext cx="8720280" cy="25275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заслушивает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отчеты руководителя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ганизации образования о деятельности организации образования, в том числе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 качественном предоставлении образовательных услуг,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спользован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благотворительной помощ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и принимаемых мерах по устройству детей-сирот и детей, оставшихся без попечения родителей в семьи казахстанских граждан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частвует в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конференциях, совещаниях, семинарах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по вопросам деятельности организаций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знакомится  с деятельностью организации образования,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условиями, предоставленными обучающимся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и воспитанникам организации образования, проводят с ними беседу в присутствии психолога организации образова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право стрелка 2"/>
          <p:cNvSpPr/>
          <p:nvPr/>
        </p:nvSpPr>
        <p:spPr>
          <a:xfrm>
            <a:off x="8244000" y="26766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3378284"/>
                <a:lnTo>
                  <a:pt x="5400" y="21334"/>
                </a:lnTo>
                <a:lnTo>
                  <a:pt x="0" y="18352"/>
                </a:lnTo>
                <a:lnTo>
                  <a:pt x="5400" y="14838"/>
                </a:lnTo>
                <a:lnTo>
                  <a:pt x="5400" y="16462"/>
                </a:lnTo>
                <a:arcTo wR="21600" hR="8364" stAng="3378284" swAng="-3115316"/>
                <a:lnTo>
                  <a:pt x="21189" y="9988"/>
                </a:lnTo>
                <a:arcTo wR="21600" hR="8364" stAng="-262968" swAng="-5137032"/>
                <a:close/>
              </a:path>
              <a:path fill="darkenLess"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-262968"/>
                <a:lnTo>
                  <a:pt x="21189" y="9988"/>
                </a:lnTo>
                <a:arcTo wR="21600" hR="8364" stAng="-262968" swAng="-5137032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1:38:20Z</dcterms:created>
  <dc:creator>Елена Рыльцева</dc:creator>
  <dc:description/>
  <dc:language>en-US</dc:language>
  <cp:lastModifiedBy>Ибраева Стэлла Амангельдиевна</cp:lastModifiedBy>
  <cp:lastPrinted>2017-06-12T09:40:53Z</cp:lastPrinted>
  <dcterms:modified xsi:type="dcterms:W3CDTF">2017-11-28T04:31:23Z</dcterms:modified>
  <cp:revision>73</cp:revision>
  <dc:subject/>
  <dc:title>Методический портфолио педагога</dc:title>
</cp:coreProperties>
</file>